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F91-6758-4BD7-AC0A-350F9B3C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04D-AFC2-4635-B329-8D00D454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7DA-7BE8-4CF8-80EB-FF206303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7E8-F7EF-4331-9533-9183C467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7D3-B19A-40B1-85B7-B0957EAC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C28-4C22-4033-8044-6A18AE14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5B6-0729-4B4F-9BCB-2447DBD5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1C2-C643-4094-BCE0-07227507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651-25FB-4FD8-B6A4-A435B7A2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087-A0D7-4CAE-95DB-F232AAB6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C48-954F-4D30-9E32-11B05B5A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B97-75A2-4982-8528-EB4C2C9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8031-3D16-4949-A7F9-ED6EAA1F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of all merc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grace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make a fresh st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know we have not love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have we loved our neighb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hope to be forgi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ch us how to forg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lead us forward in a new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neither gru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resentment have a p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2400" spc="-1" strike="noStrike">
                <a:solidFill>
                  <a:srgbClr val="bbe0e3"/>
                </a:solidFill>
                <a:latin typeface="Arial Narrow"/>
              </a:rPr>
              <a:t>Methodist Worshi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1:42:10Z</dcterms:created>
  <dc:creator>Anon Anon</dc:creator>
  <dc:description/>
  <dc:language>en-US</dc:language>
  <cp:lastModifiedBy>Anon Anon</cp:lastModifiedBy>
  <dcterms:modified xsi:type="dcterms:W3CDTF">2005-08-16T04:20:57Z</dcterms:modified>
  <cp:revision>17</cp:revision>
  <dc:subject/>
  <dc:title>PowerPoint Presentation</dc:title>
</cp:coreProperties>
</file>